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8A-FEDE-48EF-BA67-A8D36DEA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53E-8C38-4CFF-8B56-89689292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E97-60EC-4516-B43B-88AC6B6D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8E2-2014-4336-9675-C5C9007F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B7C8-DFAA-4BAC-BAE8-04DBCC5F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B1B-A989-4381-A036-76D9D90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6E11-E031-445E-9708-85D95B1D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958-2695-4550-8A7F-C23C4BB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3804-F480-4BF8-8466-BB5B3912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003A-7884-4A1A-9B2F-A9F9B95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8F9-3A4C-448F-BD2D-51CDDF5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75A-C128-49C9-9482-2E064B1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AB27-B14B-4075-8D16-941AB6B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35A7-5389-4741-A675-1EE5432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55D-56D6-4BF9-B5F0-86B8398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E651-7D37-409E-84D3-8659FCAE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CAF1-CC43-4A55-945F-D69E9304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B6452-8F68-4689-8C48-FB0D00CA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E9345-8F7A-4E6A-985C-4D98922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D4EB3-E911-4452-8458-BEC89A9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FE50F-CDCA-42BE-A9EA-8612AD1F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3B6F3-B4F1-49B8-84CF-E7B2D110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378-166B-406C-BD89-04AA318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88276-DB51-4B39-AF93-3D40F44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4D063-9A66-4936-BEBF-18B39BA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EA815-D4B1-4FD1-BEC8-373636A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AD50E-8448-4C60-8193-BB020FF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E1941-D4B6-4C9C-AA0F-E9D0BB7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3F799-6DE5-4D99-A592-0E9654A2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B1627-5F6B-480B-A7F0-268C9D8F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36519-EEFA-4615-90E3-70CD5AA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6E5B6-F76E-44D0-8364-D9A15267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90459-1735-4DBC-9BB2-F4EFC36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B4E-7C40-49C2-95AD-B452426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D3D99-82E0-4B88-A0EF-E5BA1C3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F67C2-E0FD-4284-963D-617DB963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F2503-00AD-49E2-810D-51136F4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AC571-AE69-4601-8945-55D17E85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5DED5-E023-47EE-AF71-3F00C9C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06182-7C6B-4132-9583-7F62AAD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65A31-2EF3-4828-802C-380D9328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D6645-8A0A-42C9-AE16-9028B7F5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934EC-67CF-46F0-AFDC-61EE78BB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8EF5-7D2F-43E7-BB94-B07B945C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0E-9A07-40D4-A57C-EAB03887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ACF9-258A-4CA3-AB6C-F4E1965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A874-BAB6-4D55-B36D-B22BF71B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F12C-384C-456F-BBD2-BB1FBC8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B094-23F0-4003-A687-7EAE9FB1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0842-4A65-4D6B-A71D-CF962BEC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84B7-F60B-4958-A589-BB6DB6A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AD41D-1817-475A-9E34-8EB8AE3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13F6-79BB-493F-98BC-AFB0CB35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B7F2-5F41-4826-90FB-429C1B79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F04F-914C-4D72-A118-2EC2A15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6CF-D5AC-48F5-A092-05A1CFAF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A83E-F09E-4418-B7A0-859616B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25FA9-CF29-4B33-A03E-1CADD4C6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A2DA9-D6A2-4FB8-9D86-9D479012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3C7CE-E1F6-49FA-BF90-26DA4C5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413AF-2AC6-4C7B-B2C9-29EC1A9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FFBF5-AB2A-4E27-8701-9E38974F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7B18C-311A-4718-8253-B289AF7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CAC14-E58C-448F-8242-DA350F8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22885-D420-4BA5-AA19-5F71803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754F9-4777-46AB-814E-0456FDD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A7C-7EB3-4D62-9CAF-6F1B071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AC0E3-502F-4837-8726-0FCCADB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04D8E-19C9-444B-919D-F4047308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B3461-581D-4404-94F9-20718AC7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9BA1-6E2B-4408-A0A9-C99A724C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391D-5970-4111-81C6-D66A0CF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3F37-83AD-4905-86B9-70932318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06C8D-63DE-4C95-8F3C-96AC50F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6C2E-6831-4D31-873C-45EA443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8BB36-9D25-43C7-9A23-546B2EA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5522-4FF8-4CF9-8659-A568CFF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90F-3B28-4EBA-9553-4ACE289C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3134C-0674-49F8-9E3E-A569D61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55E31-0548-441F-8269-7858507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7E738-9906-418B-9492-388F673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A8684-7AF2-47E1-8C94-CCFE0DB1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7EFC-B8AE-45EE-AA94-20C0F92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2C8-3CBD-4E08-B486-C09615C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B68-3FEE-41A6-8870-BAEBDC5F5A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BCC0-AC97-4580-BD25-7362C09C907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76F9-72A1-4F3F-BBEF-AA88699AD7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6E85-C5C7-415E-A6F0-B85AE2B07A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DD26-3106-4A48-B9B7-7135FDF8AAC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F17-F40F-4BAC-9C59-BD2E07C27E8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915-1890-459E-AE03-DE5A315F2E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HYBRID TEACHING AND LEARNING IN CONTEMPORARY ENGLISH TEACHER EDU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285640" y="61718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r. Marshall A. Georg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rdham University, New York Ci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le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e have lear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 we are head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“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hift Happens…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in teacher education”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merican Association of Colleges of Teacher Education and The Partnership for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Century Skill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tional Council of Teachers of Englis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CK-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PCK (Shulman 1986; Mishra &amp; Koelher 2004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shif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8358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the shif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glish Teacher Education Programs (7-12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dham University Graduate School of Edu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w York 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ternative Route Certification Students who are full time teach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d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5" name="Content Placeholder 2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3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at does the shift look like in our program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olescent Literature (big pictur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ations of Adolescent Language and Literacy (specific chang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Adolescent Literature in a Multicultural Society: A Hybrid Adventur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ent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terature for Adolesc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dagogical Content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aching Literature to Adolesc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ical Content Pedagogical Knowled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tilizing digital literacies to teach adolescent literature to adolescents and to assess their knowledge and skil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 Class Learning Commun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ructor Presen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ole Class Discus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uest Spea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 Shares (digital and tradition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 Clubs/Literature Circ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ner and Small Group Activ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udent Present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ynchronous Learning Commun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b Qu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net Research and Rea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ussion Bo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 Blo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dca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nfi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rtual Book Clu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 Portfolio Libra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21:46:55Z</dcterms:created>
  <dc:creator> </dc:creator>
  <dc:description/>
  <dc:language>en-US</dc:language>
  <cp:lastModifiedBy> </cp:lastModifiedBy>
  <dcterms:modified xsi:type="dcterms:W3CDTF">2011-04-16T21:51:38Z</dcterms:modified>
  <cp:revision>1</cp:revision>
  <dc:subject/>
  <dc:title>HYBRID TEACHING AND LEARNING IN CONTEMPORARY ENGLISH TEACHER EDUCATION</dc:title>
</cp:coreProperties>
</file>